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37B3-0F8E-4759-BEA4-2FA542112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B84B-C5B0-49A1-807D-C4C57F6CE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0032-D806-477B-88C2-B5950C620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E31E-B7BB-4DAD-B82B-BC0DF7156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56789-7D5D-4999-ACB8-FCDE80DE2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7798D-5896-41AE-A0F8-716DFA2BB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D0CC1-F9EF-4DB5-90D6-8CC829534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B5775-CD4C-489C-83D4-C62A8A803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5009F-26A5-4E94-BB5D-ABB6D6425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DE3BA-0D99-4C31-A657-04725F51A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64923-0172-4EC4-BBF2-FF8454FC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AA63-EDF0-4AD4-8201-447636C05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224A2-0612-429C-85FE-6566EBC2B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B814E-DF3C-4C2A-A064-93E51DCA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9969F-1FA7-459C-9678-FEEAA0299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3062B-59EE-48D7-A0C2-5D9B88220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4CDFB-79EC-433C-BBB5-7B711FDBB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2F8E-5BEB-490B-84CC-DA6889B0A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4C1F-5E3B-4942-9764-A5F39FF83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8C03-DD9D-4868-80AF-6A8A80E28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47F6-36CB-4920-B587-130B971F4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B84C-EDB0-4060-9E27-7CE4DE52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D475-9F74-4446-82D7-96579253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3203-3BC8-4C46-BBF8-F6D4DDBF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3ABB1-1A7B-49C5-9DAB-7A46E6BD3E5E}" type="slidenum">
              <a:rPr b="1" lang="en-US" sz="26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24199-237E-4140-BBF8-4F5E8E10F6D2}" type="slidenum">
              <a:rPr b="1" lang="en-US" sz="26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Baveuse"/>
              </a:rPr>
              <a:t>ISRAEL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7315200" cy="36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1085040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LAND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AD S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371600" y="2971800"/>
            <a:ext cx="7315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Dead Sea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838080" y="1866960"/>
            <a:ext cx="731520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LAND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br>
              <a:rPr sz="3200"/>
            </a:br>
            <a:endParaRPr b="1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lan Heigh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gev Dese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581280" y="2879640"/>
            <a:ext cx="541044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ECONOMY</a:t>
            </a: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r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tru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e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bbut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sha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ufactu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l Aviv/Yaf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pota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971800" y="2362320"/>
            <a:ext cx="1584360" cy="1981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3600" y="4724280"/>
            <a:ext cx="2895480" cy="19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PEOPLE</a:t>
            </a: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daism – 8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lestinian – 2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rusa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 Avi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if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971800" y="3505320"/>
            <a:ext cx="2440080" cy="28954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562720" y="228600"/>
            <a:ext cx="33336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History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raelites, Ottomans, Byzantines, Ar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cism in Euro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W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locau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iya – Law of retu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828800" y="4932360"/>
            <a:ext cx="2228760" cy="1862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686480" y="3048120"/>
            <a:ext cx="445752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HISTORY</a:t>
            </a: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 Day W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m Kippur W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nich G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st Bank and Gaza Str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mocratic Republ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638680" y="380880"/>
            <a:ext cx="2857680" cy="3214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276720" y="304920"/>
            <a:ext cx="1904760" cy="1419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5791320" y="3733920"/>
            <a:ext cx="28573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9:49:10Z</dcterms:created>
  <dc:creator>Joe Dirt</dc:creator>
  <dc:description/>
  <dc:language>en-US</dc:language>
  <cp:lastModifiedBy> John Doe</cp:lastModifiedBy>
  <dcterms:modified xsi:type="dcterms:W3CDTF">2010-01-13T14:39:21Z</dcterms:modified>
  <cp:revision>8</cp:revision>
  <dc:subject/>
  <dc:title>ISRAEL</dc:title>
</cp:coreProperties>
</file>